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B29D-645B-4BE0-855D-71490FA46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F35E-A8B1-42C3-BFEC-FCF15B9B1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32B6-87DA-4A8F-A580-2EA59BB73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4C56-B016-40FA-83E0-17F145EA7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EE746-5A09-4F99-80AD-8933CDB8D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03FEE-8138-477E-B0F8-B3FA02C8D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DA749-59C2-4C09-A928-C67C8C309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81915-4BE5-4952-8EB8-FD98595EF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F3908-1EC1-4C58-8323-59EBA7AE4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11184-9183-4784-87A8-D5DEFE5B3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BF24F-8EE2-407B-B265-79DEBD78C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D1E6-593C-4528-95EA-3A176E8E0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62051-F4B5-43FE-A38E-3931D314F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99E15-AAF3-4D40-ACA7-17D7DCA1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45309-665B-41CA-A71C-547B1CCC8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D2A89-C1AD-4739-8846-2E249B55E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C9212-D37A-45AE-974C-3A84154C6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6F65-730F-4B28-93EE-F8724AB81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16AC-5AD2-4AC1-8630-43F2D68F4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0DE6-1392-48D7-88F9-32017B47A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E7A3-BCD4-4045-8104-88057C8B2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A62D-0BEB-48B3-B12F-26B75546D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69D4-1952-41DE-9D25-7A587B87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F20F-15A5-4CB3-8EC8-E168B9D94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AA88F-82C8-4EC2-B887-998C46B3697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5FBE3-29AC-400C-8DF2-E8493ED73DF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Manufacturing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Departments in Industry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nage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ngineer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du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rket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nanc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uman resourc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Managemen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983160" indent="-548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kes sure all the departments work togeth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83160" indent="-548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ke company policies and then makes sure the other departments follow th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83160" indent="-548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anked in a hierarchical ord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83160" indent="-548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uties include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339200" indent="-470520">
              <a:lnSpc>
                <a:spcPct val="90000"/>
              </a:lnSpc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lann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339200" indent="-470520">
              <a:lnSpc>
                <a:spcPct val="90000"/>
              </a:lnSpc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rganiz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339200" indent="-470520">
              <a:lnSpc>
                <a:spcPct val="90000"/>
              </a:lnSpc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irect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339200" indent="-470520">
              <a:lnSpc>
                <a:spcPct val="90000"/>
              </a:lnSpc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ntroll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339200" indent="-470520">
              <a:lnSpc>
                <a:spcPct val="90000"/>
              </a:lnSpc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valuat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Engineering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35000" indent="-577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signs, produces, and tests the first model of a new product (prototypes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1035000" indent="-577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y conduct tests and experime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1035000" indent="-577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ost departments have a research and development tea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1035000" indent="-577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ypes of engineers include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409760" indent="-495360">
              <a:lnSpc>
                <a:spcPct val="90000"/>
              </a:lnSpc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nufactur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409760" indent="-495360">
              <a:lnSpc>
                <a:spcPct val="90000"/>
              </a:lnSpc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Quality contro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409760" indent="-495360">
              <a:lnSpc>
                <a:spcPct val="90000"/>
              </a:lnSpc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sig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409760" indent="-495360">
              <a:lnSpc>
                <a:spcPct val="90000"/>
              </a:lnSpc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ethod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Production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	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s up and uses the tools and machine to make the produc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nagement worker, the supervisor, is in charg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vided into skilled, semi-skilled, and unskilled labo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Marketing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ducts market research and advertises, packages, sells, and distributes the produc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partment includes: statisticians, advertisers, package designers, salespeople, and shipping worker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Finance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Keeps track of all income and expenditur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penditures include: payroll, material costs, utility costs, and buying and maintaining tools, equipment, and machin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partment includes: accountants, bookkeepers, and other record keeper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Human Resource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35000" indent="-57780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sible for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409760" indent="-495360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cruit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409760" indent="-495360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egotiat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409760" indent="-495360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rain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409760" indent="-495360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ealth and Safet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784520" indent="-41292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aintains safe environment by the Occupational Safety and Health administration (OSHA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409760" indent="-495360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ublic Relation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Material Processing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imary Manufacturing Process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60240" indent="-6602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ary Manufacturing Process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60240" indent="-6602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nished produ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Primary Manufacturing processe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613800" indent="-613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materials must change from their raw state to a more useful form for secondary manufactur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62280" indent="-537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btaining raw materia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62280" indent="-537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fining materials- separates the useful part from the unwanted and less useful materia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310760" indent="-460440">
              <a:lnSpc>
                <a:spcPct val="90000"/>
              </a:lnSpc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echanical refin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310760" indent="-460440">
              <a:lnSpc>
                <a:spcPct val="90000"/>
              </a:lnSpc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hemical refin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310760" indent="-460440">
              <a:lnSpc>
                <a:spcPct val="90000"/>
              </a:lnSpc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rmal refin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62280" indent="-537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nufacturing standard materia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13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Secondary Manufacturing processes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parating too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ming too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bining too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ther too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ut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What is manufacturing?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ctionary.com defines it a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making of goods or wares by manual labor or by machinery, especially on a large scal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Separating tool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move part of the original material and leave the required size and shap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409760" indent="-495360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hip remov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784520" indent="-41292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rills and bi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784520" indent="-41292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aw blad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784520" indent="-41292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utter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784520" indent="-41292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les, grinders, and abrasive paper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409760" indent="-495360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hearing tools (shears, chisels, and punches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Forming tool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409760" indent="-495360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asting tool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409760" indent="-495360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mpressing and stretching tool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409760" indent="-495360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nditioning tool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ombining tool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409760" indent="-495360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ating tool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409760" indent="-495360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onding tool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409760" indent="-495360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echanical fastening tool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Other tool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409760" indent="-495360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easur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409760" indent="-495360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olding-Clamps and pli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409760" indent="-495360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ositioning-Jigs and fixtur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409760" indent="-495360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ransporting machin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Characteristics of Mass Production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cision measure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andardiz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terchangeabil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ynchroniz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tinu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Characteristics in choosing they type of manufacturing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olume to be produc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vailability of necessary inpu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ypes of products to be ma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fe cycle or durability of a produ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duction philosophy of the organiz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Types of manufacturing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tinuous Manufactur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termittent (batch) manufactur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ustom manufacturing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ust-in-time (JIT) (kanban) manufactur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ontinuous Manufacturing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duces a large # of identical product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arrow production line (company makes only one product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amples: TVs, radios, refrigerators, food, and utensil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quires workers to be specialized at their job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Intermittent (batch) manufacturing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pany has a large invento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hosen for medium length production runs of a wide variety of product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-up and tooling are changed often because of modifica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vantage: same production line may be used for different produc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amples: holiday candy, musical instruments, and house pain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ustom manufacturing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duces one or just a few products at a tim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ach product is uniqu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blem solving and trouble shooting are necessary ski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ices of final product is quite hig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amples: large yachts, airplanes, custom tools, jewelry, pottery, custom furniture and sign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Just-in-time (JIT) (kanban) manufacturing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n be applied to the different types of manufactur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Key goals: reduce the inactive inventory and cut lot siz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1T15:21:34Z</dcterms:created>
  <dc:creator>slwilke</dc:creator>
  <dc:description/>
  <dc:language>en-US</dc:language>
  <cp:lastModifiedBy>slwilke</cp:lastModifiedBy>
  <dcterms:modified xsi:type="dcterms:W3CDTF">2011-03-31T15:22:56Z</dcterms:modified>
  <cp:revision>1</cp:revision>
  <dc:subject/>
  <dc:title>Manufacturing</dc:title>
</cp:coreProperties>
</file>